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8B8-ECC2-412F-A3BC-7187F4CA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E77-895B-4CAA-84B7-A7883E29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120-866A-4FF5-A0F0-E554CE69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D31-E3AF-457D-9723-198DA75F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3173-6872-46C1-A016-B5656E03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7F0F-3404-49FC-A398-8D750CCC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56F6-C8F7-4C48-9F0E-1839010F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B5A0-1EE1-4E81-A12C-DE23ADAD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A18B-7857-4551-91EE-8B30D9A2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0069-FCF2-4548-9B1C-92DB98EB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4D53-D31C-46F2-849F-EEEEEBED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FC4-4305-41E5-8AC1-E2B218D1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2CF9-4216-4438-ACCF-E07AC221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932E-98C1-461A-8E7D-83C23267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C3B4-5E9C-4EBE-87DE-C901C38F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104E-7971-484E-A303-C86FB445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D00D-486B-4D98-B245-85B00B1B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054-ED24-4560-B0F6-2BB7DAB1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F64-5FD4-4EB4-9B05-182F11DD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ED0F-4B41-463F-9390-A0218DF6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D3D-5839-444A-B6AB-BC434A0F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CC3-BE08-47E9-8345-A16667E3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B50-D6BB-4A21-8625-D1F870F6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FAA-5BC1-4384-8E2F-2F1A7B90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3411-26AB-4860-B9C0-AC7FEE5EF9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230E-283D-43D8-85C4-DFF693A62D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9"/>
          <p:cNvSpPr/>
          <p:nvPr/>
        </p:nvSpPr>
        <p:spPr>
          <a:xfrm>
            <a:off x="152280" y="152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lringer 3/31/20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0" y="3276720"/>
            <a:ext cx="9144000" cy="27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first 5 minutes to answer the following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ere three of the economic changes that occurred in Europe during the Middle Ag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wo to three sentences describe a medieval t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were living in the High Middle Ages, would you rather live in a town, on a manor, or in a peasant’s village? 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8" descr="PolandCastleMalbork"/>
          <p:cNvPicPr/>
          <p:nvPr/>
        </p:nvPicPr>
        <p:blipFill>
          <a:blip r:embed="rId1"/>
          <a:stretch/>
        </p:blipFill>
        <p:spPr>
          <a:xfrm>
            <a:off x="4700520" y="146160"/>
            <a:ext cx="4010040" cy="529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knights-jousting-3"/>
          <p:cNvPicPr/>
          <p:nvPr/>
        </p:nvPicPr>
        <p:blipFill>
          <a:blip r:embed="rId2"/>
          <a:stretch/>
        </p:blipFill>
        <p:spPr>
          <a:xfrm>
            <a:off x="738360" y="907920"/>
            <a:ext cx="309528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10:04Z</dcterms:created>
  <dc:creator>admin</dc:creator>
  <dc:description/>
  <dc:language>en-US</dc:language>
  <cp:lastModifiedBy>admin</cp:lastModifiedBy>
  <dcterms:modified xsi:type="dcterms:W3CDTF">2011-03-31T13:38:37Z</dcterms:modified>
  <cp:revision>25</cp:revision>
  <dc:subject/>
  <dc:title>Slide 1</dc:title>
</cp:coreProperties>
</file>